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0691813" cy="1511935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2247840" y="-360"/>
            <a:ext cx="244152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29527b"/>
                </a:solidFill>
                <a:latin typeface="Open Sans Extrabold"/>
              </a:rPr>
              <a:t>Click to move the slide</a:t>
            </a:r>
            <a:endParaRPr b="1" lang="en-US" sz="22000" spc="-1" strike="noStrike">
              <a:solidFill>
                <a:srgbClr val="29527b"/>
              </a:solidFill>
              <a:latin typeface="Open Sans Extra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5960" y="3646080"/>
            <a:ext cx="6553080" cy="6016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imes New Roman"/>
              </a:rPr>
              <a:t>Click to edit the notes format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2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3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7F56381-76F8-41F2-BB73-3AD532AD8B3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247840" y="0"/>
            <a:ext cx="2441520" cy="345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960" y="3646080"/>
            <a:ext cx="6553080" cy="60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9540C1A-7E17-4DB3-9479-91B61E0C1758}" type="slidenum">
              <a:rPr b="0" lang="pl-P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247840" y="0"/>
            <a:ext cx="2441520" cy="345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960" y="3646080"/>
            <a:ext cx="6553080" cy="60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B685547-7D17-4F26-BF7F-64F611F0DC79}" type="slidenum">
              <a:rPr b="0" lang="pl-P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4600" y="289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4600" y="289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4600" y="289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-3163680"/>
            <a:ext cx="9622440" cy="100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"/>
          <p:cNvSpPr/>
          <p:nvPr/>
        </p:nvSpPr>
        <p:spPr>
          <a:xfrm>
            <a:off x="0" y="0"/>
            <a:ext cx="10688760" cy="15103440"/>
          </a:xfrm>
          <a:custGeom>
            <a:avLst/>
            <a:gdLst/>
            <a:ahLst/>
            <a:rect l="l" t="t" r="r" b="b"/>
            <a:pathLst>
              <a:path w="3368" h="4762">
                <a:moveTo>
                  <a:pt x="3368" y="0"/>
                </a:moveTo>
                <a:cubicBezTo>
                  <a:pt x="2475" y="0"/>
                  <a:pt x="2475" y="0"/>
                  <a:pt x="2475" y="0"/>
                </a:cubicBezTo>
                <a:cubicBezTo>
                  <a:pt x="2441" y="389"/>
                  <a:pt x="2392" y="688"/>
                  <a:pt x="2330" y="899"/>
                </a:cubicBezTo>
                <a:cubicBezTo>
                  <a:pt x="2232" y="1230"/>
                  <a:pt x="2037" y="1511"/>
                  <a:pt x="1743" y="1741"/>
                </a:cubicBezTo>
                <a:cubicBezTo>
                  <a:pt x="1450" y="1972"/>
                  <a:pt x="1020" y="2087"/>
                  <a:pt x="455" y="2087"/>
                </a:cubicBezTo>
                <a:cubicBezTo>
                  <a:pt x="455" y="0"/>
                  <a:pt x="455" y="0"/>
                  <a:pt x="4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62"/>
                  <a:pt x="0" y="4762"/>
                  <a:pt x="0" y="4762"/>
                </a:cubicBezTo>
                <a:cubicBezTo>
                  <a:pt x="455" y="4762"/>
                  <a:pt x="455" y="4762"/>
                  <a:pt x="455" y="4762"/>
                </a:cubicBezTo>
                <a:cubicBezTo>
                  <a:pt x="455" y="2644"/>
                  <a:pt x="455" y="2644"/>
                  <a:pt x="455" y="2644"/>
                </a:cubicBezTo>
                <a:cubicBezTo>
                  <a:pt x="1341" y="2619"/>
                  <a:pt x="2038" y="2443"/>
                  <a:pt x="2545" y="2118"/>
                </a:cubicBezTo>
                <a:cubicBezTo>
                  <a:pt x="2904" y="1887"/>
                  <a:pt x="3178" y="1607"/>
                  <a:pt x="3368" y="1278"/>
                </a:cubicBezTo>
                <a:cubicBezTo>
                  <a:pt x="3368" y="0"/>
                  <a:pt x="3368" y="0"/>
                  <a:pt x="3368" y="0"/>
                </a:cubicBezTo>
              </a:path>
            </a:pathLst>
          </a:custGeom>
          <a:solidFill>
            <a:srgbClr val="00447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rostokąt 9"/>
          <p:cNvSpPr/>
          <p:nvPr/>
        </p:nvSpPr>
        <p:spPr>
          <a:xfrm>
            <a:off x="0" y="13679640"/>
            <a:ext cx="10691640" cy="1439640"/>
          </a:xfrm>
          <a:prstGeom prst="rect">
            <a:avLst/>
          </a:prstGeom>
          <a:solidFill>
            <a:srgbClr val="c5c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13681080"/>
            <a:ext cx="720720" cy="1440000"/>
          </a:xfrm>
          <a:prstGeom prst="rect">
            <a:avLst/>
          </a:prstGeom>
          <a:solidFill>
            <a:srgbClr val="004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9970920" y="13677840"/>
            <a:ext cx="720720" cy="1440000"/>
          </a:xfrm>
          <a:prstGeom prst="rect">
            <a:avLst/>
          </a:prstGeom>
          <a:solidFill>
            <a:srgbClr val="ffd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Symbol zastępczy tekstu 5"/>
          <p:cNvSpPr/>
          <p:nvPr/>
        </p:nvSpPr>
        <p:spPr>
          <a:xfrm>
            <a:off x="1574640" y="13758840"/>
            <a:ext cx="74980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Grupa 655" descr=""/>
          <p:cNvPicPr/>
          <p:nvPr/>
        </p:nvPicPr>
        <p:blipFill>
          <a:blip r:embed="rId2"/>
          <a:stretch/>
        </p:blipFill>
        <p:spPr>
          <a:xfrm>
            <a:off x="66600" y="13722480"/>
            <a:ext cx="13050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" name="Grupa 16"/>
          <p:cNvGrpSpPr/>
          <p:nvPr/>
        </p:nvGrpSpPr>
        <p:grpSpPr>
          <a:xfrm>
            <a:off x="9450360" y="13866840"/>
            <a:ext cx="1031760" cy="1030320"/>
            <a:chOff x="9450360" y="13866840"/>
            <a:chExt cx="1031760" cy="1030320"/>
          </a:xfrm>
        </p:grpSpPr>
        <p:sp>
          <p:nvSpPr>
            <p:cNvPr id="7" name="Owal 17"/>
            <p:cNvSpPr/>
            <p:nvPr/>
          </p:nvSpPr>
          <p:spPr>
            <a:xfrm>
              <a:off x="9450360" y="13866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" name="Grafika 18" descr=""/>
            <p:cNvPicPr/>
            <p:nvPr/>
          </p:nvPicPr>
          <p:blipFill>
            <a:blip r:embed="rId3"/>
            <a:stretch/>
          </p:blipFill>
          <p:spPr>
            <a:xfrm>
              <a:off x="9558000" y="13947480"/>
              <a:ext cx="816120" cy="874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2"/>
            </a:gs>
            <a:gs pos="100000">
              <a:srgbClr val="ffda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3"/>
          <p:cNvSpPr/>
          <p:nvPr/>
        </p:nvSpPr>
        <p:spPr>
          <a:xfrm>
            <a:off x="0" y="0"/>
            <a:ext cx="10688760" cy="15103440"/>
          </a:xfrm>
          <a:custGeom>
            <a:avLst/>
            <a:gdLst/>
            <a:ahLst/>
            <a:rect l="l" t="t" r="r" b="b"/>
            <a:pathLst>
              <a:path w="3368" h="4762">
                <a:moveTo>
                  <a:pt x="3368" y="0"/>
                </a:moveTo>
                <a:cubicBezTo>
                  <a:pt x="2475" y="0"/>
                  <a:pt x="2475" y="0"/>
                  <a:pt x="2475" y="0"/>
                </a:cubicBezTo>
                <a:cubicBezTo>
                  <a:pt x="2441" y="389"/>
                  <a:pt x="2392" y="688"/>
                  <a:pt x="2330" y="899"/>
                </a:cubicBezTo>
                <a:cubicBezTo>
                  <a:pt x="2232" y="1230"/>
                  <a:pt x="2037" y="1511"/>
                  <a:pt x="1743" y="1741"/>
                </a:cubicBezTo>
                <a:cubicBezTo>
                  <a:pt x="1450" y="1972"/>
                  <a:pt x="1020" y="2087"/>
                  <a:pt x="455" y="2087"/>
                </a:cubicBezTo>
                <a:cubicBezTo>
                  <a:pt x="455" y="0"/>
                  <a:pt x="455" y="0"/>
                  <a:pt x="4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62"/>
                  <a:pt x="0" y="4762"/>
                  <a:pt x="0" y="4762"/>
                </a:cubicBezTo>
                <a:cubicBezTo>
                  <a:pt x="455" y="4762"/>
                  <a:pt x="455" y="4762"/>
                  <a:pt x="455" y="4762"/>
                </a:cubicBezTo>
                <a:cubicBezTo>
                  <a:pt x="455" y="2644"/>
                  <a:pt x="455" y="2644"/>
                  <a:pt x="455" y="2644"/>
                </a:cubicBezTo>
                <a:cubicBezTo>
                  <a:pt x="1341" y="2619"/>
                  <a:pt x="2038" y="2443"/>
                  <a:pt x="2545" y="2118"/>
                </a:cubicBezTo>
                <a:cubicBezTo>
                  <a:pt x="2904" y="1887"/>
                  <a:pt x="3178" y="1607"/>
                  <a:pt x="3368" y="1278"/>
                </a:cubicBezTo>
                <a:cubicBezTo>
                  <a:pt x="3368" y="0"/>
                  <a:pt x="3368" y="0"/>
                  <a:pt x="3368" y="0"/>
                </a:cubicBezTo>
              </a:path>
            </a:pathLst>
          </a:custGeom>
          <a:solidFill>
            <a:srgbClr val="c5cc1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rostokąt 9"/>
          <p:cNvSpPr/>
          <p:nvPr/>
        </p:nvSpPr>
        <p:spPr>
          <a:xfrm>
            <a:off x="0" y="13679640"/>
            <a:ext cx="10691640" cy="1439640"/>
          </a:xfrm>
          <a:prstGeom prst="rect">
            <a:avLst/>
          </a:prstGeom>
          <a:solidFill>
            <a:srgbClr val="c5c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681080"/>
            <a:ext cx="720720" cy="1440000"/>
          </a:xfrm>
          <a:prstGeom prst="rect">
            <a:avLst/>
          </a:prstGeom>
          <a:solidFill>
            <a:srgbClr val="004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970920" y="13677840"/>
            <a:ext cx="720720" cy="1440000"/>
          </a:xfrm>
          <a:prstGeom prst="rect">
            <a:avLst/>
          </a:prstGeom>
          <a:solidFill>
            <a:srgbClr val="ffd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Symbol zastępczy tekstu 5"/>
          <p:cNvSpPr/>
          <p:nvPr/>
        </p:nvSpPr>
        <p:spPr>
          <a:xfrm>
            <a:off x="1574640" y="13758840"/>
            <a:ext cx="74980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Grupa 654" descr=""/>
          <p:cNvPicPr/>
          <p:nvPr/>
        </p:nvPicPr>
        <p:blipFill>
          <a:blip r:embed="rId2"/>
          <a:stretch/>
        </p:blipFill>
        <p:spPr>
          <a:xfrm>
            <a:off x="66600" y="13722480"/>
            <a:ext cx="13050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1" name="Grupa 16"/>
          <p:cNvGrpSpPr/>
          <p:nvPr/>
        </p:nvGrpSpPr>
        <p:grpSpPr>
          <a:xfrm>
            <a:off x="9450360" y="13866840"/>
            <a:ext cx="1031760" cy="1030320"/>
            <a:chOff x="9450360" y="13866840"/>
            <a:chExt cx="1031760" cy="1030320"/>
          </a:xfrm>
        </p:grpSpPr>
        <p:sp>
          <p:nvSpPr>
            <p:cNvPr id="52" name="Owal 17"/>
            <p:cNvSpPr/>
            <p:nvPr/>
          </p:nvSpPr>
          <p:spPr>
            <a:xfrm>
              <a:off x="9450360" y="13866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9144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3" name="Grafika 18" descr=""/>
            <p:cNvPicPr/>
            <p:nvPr/>
          </p:nvPicPr>
          <p:blipFill>
            <a:blip r:embed="rId3"/>
            <a:stretch/>
          </p:blipFill>
          <p:spPr>
            <a:xfrm>
              <a:off x="9558000" y="13947480"/>
              <a:ext cx="81612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7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29527b"/>
                </a:solidFill>
                <a:latin typeface="Open Sans"/>
              </a:rPr>
              <a:t>Click to edit the title text format</a:t>
            </a:r>
            <a:endParaRPr b="1" lang="en-US" sz="22000" spc="-1" strike="noStrike">
              <a:solidFill>
                <a:srgbClr val="29527b"/>
              </a:solidFill>
              <a:latin typeface="Open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marL="754200" indent="-754200">
              <a:spcBef>
                <a:spcPts val="20625"/>
              </a:spcBef>
              <a:buClr>
                <a:srgbClr val="ff9900"/>
              </a:buClr>
              <a:buSzPct val="130000"/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66"/>
                </a:solidFill>
                <a:latin typeface="Open Sans"/>
              </a:rPr>
              <a:t>Click to edit the outline text format</a:t>
            </a: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  <a:p>
            <a:pPr lvl="1" marL="1635840" indent="-628560">
              <a:spcBef>
                <a:spcPts val="1724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Second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  <a:p>
            <a:pPr lvl="2" marL="2516760" indent="-501840">
              <a:spcBef>
                <a:spcPts val="17249"/>
              </a:spcBef>
              <a:buClr>
                <a:srgbClr val="003366"/>
              </a:buClr>
              <a:buSzPct val="120000"/>
              <a:buFont typeface="Arial"/>
              <a:buChar char="•"/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Third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  <a:p>
            <a:pPr lvl="3" marL="3524040" indent="-501840">
              <a:spcBef>
                <a:spcPts val="17249"/>
              </a:spcBef>
              <a:buClr>
                <a:srgbClr val="003366"/>
              </a:buClr>
              <a:buFont typeface="Wingdings" charset="2"/>
              <a:buChar char=""/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Fourth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  <a:p>
            <a:pPr lvl="4" marL="4531320" indent="-501840">
              <a:spcBef>
                <a:spcPts val="17249"/>
              </a:spcBef>
              <a:buClr>
                <a:srgbClr val="ff9900"/>
              </a:buClr>
              <a:buFont typeface="Arial"/>
              <a:buChar char="▫"/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Fifth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  <a:p>
            <a:pPr lvl="5" marL="4531320" indent="-501840">
              <a:spcBef>
                <a:spcPts val="460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Sixth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  <a:p>
            <a:pPr lvl="6" marL="4531320" indent="-501840">
              <a:spcBef>
                <a:spcPts val="4601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400" spc="-1" strike="noStrike">
                <a:solidFill>
                  <a:srgbClr val="003366"/>
                </a:solidFill>
                <a:latin typeface="Open Sans"/>
              </a:rPr>
              <a:t>Seventh Outline Level</a:t>
            </a:r>
            <a:endParaRPr b="0" lang="en-US" sz="18400" spc="-1" strike="noStrike">
              <a:solidFill>
                <a:srgbClr val="003366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13"/>
          <p:cNvSpPr/>
          <p:nvPr/>
        </p:nvSpPr>
        <p:spPr>
          <a:xfrm>
            <a:off x="0" y="0"/>
            <a:ext cx="10688760" cy="15103440"/>
          </a:xfrm>
          <a:custGeom>
            <a:avLst/>
            <a:gdLst/>
            <a:ahLst/>
            <a:rect l="l" t="t" r="r" b="b"/>
            <a:pathLst>
              <a:path w="3368" h="4762">
                <a:moveTo>
                  <a:pt x="3368" y="0"/>
                </a:moveTo>
                <a:cubicBezTo>
                  <a:pt x="2475" y="0"/>
                  <a:pt x="2475" y="0"/>
                  <a:pt x="2475" y="0"/>
                </a:cubicBezTo>
                <a:cubicBezTo>
                  <a:pt x="2441" y="389"/>
                  <a:pt x="2392" y="688"/>
                  <a:pt x="2330" y="899"/>
                </a:cubicBezTo>
                <a:cubicBezTo>
                  <a:pt x="2232" y="1230"/>
                  <a:pt x="2037" y="1511"/>
                  <a:pt x="1743" y="1741"/>
                </a:cubicBezTo>
                <a:cubicBezTo>
                  <a:pt x="1450" y="1972"/>
                  <a:pt x="1020" y="2087"/>
                  <a:pt x="455" y="2087"/>
                </a:cubicBezTo>
                <a:cubicBezTo>
                  <a:pt x="455" y="0"/>
                  <a:pt x="455" y="0"/>
                  <a:pt x="4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62"/>
                  <a:pt x="0" y="4762"/>
                  <a:pt x="0" y="4762"/>
                </a:cubicBezTo>
                <a:cubicBezTo>
                  <a:pt x="455" y="4762"/>
                  <a:pt x="455" y="4762"/>
                  <a:pt x="455" y="4762"/>
                </a:cubicBezTo>
                <a:cubicBezTo>
                  <a:pt x="455" y="2644"/>
                  <a:pt x="455" y="2644"/>
                  <a:pt x="455" y="2644"/>
                </a:cubicBezTo>
                <a:cubicBezTo>
                  <a:pt x="1341" y="2619"/>
                  <a:pt x="2038" y="2443"/>
                  <a:pt x="2545" y="2118"/>
                </a:cubicBezTo>
                <a:cubicBezTo>
                  <a:pt x="2904" y="1887"/>
                  <a:pt x="3178" y="1607"/>
                  <a:pt x="3368" y="1278"/>
                </a:cubicBezTo>
                <a:cubicBezTo>
                  <a:pt x="3368" y="0"/>
                  <a:pt x="3368" y="0"/>
                  <a:pt x="3368" y="0"/>
                </a:cubicBezTo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0" y="13679640"/>
            <a:ext cx="106916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681080"/>
            <a:ext cx="720720" cy="1440000"/>
          </a:xfrm>
          <a:prstGeom prst="rect">
            <a:avLst/>
          </a:prstGeom>
          <a:solidFill>
            <a:srgbClr val="004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970920" y="13677840"/>
            <a:ext cx="720720" cy="1440000"/>
          </a:xfrm>
          <a:prstGeom prst="rect">
            <a:avLst/>
          </a:prstGeom>
          <a:solidFill>
            <a:srgbClr val="c5cc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0680" rIns="310680" tIns="155520" bIns="155520" anchor="t" rot="10800000">
            <a:noAutofit/>
          </a:bodyPr>
          <a:p>
            <a:pPr lvl="1"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ymbol zastępczy tekstu 5"/>
          <p:cNvSpPr/>
          <p:nvPr/>
        </p:nvSpPr>
        <p:spPr>
          <a:xfrm>
            <a:off x="1574640" y="13758840"/>
            <a:ext cx="74980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Grupa 1280" descr=""/>
          <p:cNvPicPr/>
          <p:nvPr/>
        </p:nvPicPr>
        <p:blipFill>
          <a:blip r:embed="rId2"/>
          <a:stretch/>
        </p:blipFill>
        <p:spPr>
          <a:xfrm>
            <a:off x="66600" y="13722480"/>
            <a:ext cx="1305000" cy="1309680"/>
          </a:xfrm>
          <a:prstGeom prst="rect">
            <a:avLst/>
          </a:prstGeom>
          <a:ln w="0">
            <a:noFill/>
          </a:ln>
        </p:spPr>
      </p:pic>
      <p:pic>
        <p:nvPicPr>
          <p:cNvPr id="98" name="Grupa 16" descr=""/>
          <p:cNvPicPr/>
          <p:nvPr/>
        </p:nvPicPr>
        <p:blipFill>
          <a:blip r:embed="rId3"/>
          <a:stretch/>
        </p:blipFill>
        <p:spPr>
          <a:xfrm>
            <a:off x="9309240" y="1372860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38360" y="718920"/>
            <a:ext cx="9216720" cy="122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7480" indent="-717480">
              <a:spcBef>
                <a:spcPts val="601"/>
              </a:spcBef>
              <a:buClr>
                <a:srgbClr val="00447c"/>
              </a:buClr>
              <a:buSzPct val="130000"/>
              <a:buFont typeface="Wingdings 3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0" spc="-1" strike="noStrike">
              <a:solidFill>
                <a:srgbClr val="000066"/>
              </a:solidFill>
              <a:latin typeface="Open Sans Extra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56920" y="13680720"/>
            <a:ext cx="77770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38360" y="718920"/>
            <a:ext cx="9216720" cy="122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7480" indent="-717480">
              <a:spcBef>
                <a:spcPts val="601"/>
              </a:spcBef>
              <a:buClr>
                <a:srgbClr val="ffffff"/>
              </a:buClr>
              <a:buSzPct val="130000"/>
              <a:buFont typeface="Wingdings 3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56920" y="13680720"/>
            <a:ext cx="77770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38360" y="718920"/>
            <a:ext cx="9216720" cy="122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7480" indent="-717480">
              <a:spcBef>
                <a:spcPts val="601"/>
              </a:spcBef>
              <a:buClr>
                <a:srgbClr val="00447c"/>
              </a:buClr>
              <a:buSzPct val="130000"/>
              <a:buFont typeface="Wingdings 3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0" spc="-1" strike="noStrike">
              <a:solidFill>
                <a:srgbClr val="000066"/>
              </a:solidFill>
              <a:latin typeface="Open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56920" y="13680720"/>
            <a:ext cx="77770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2062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09:54:31Z</dcterms:created>
  <dc:creator/>
  <dc:description/>
  <dc:language>en-US</dc:language>
  <cp:lastModifiedBy/>
  <dcterms:modified xsi:type="dcterms:W3CDTF">2018-02-08T15:07:57Z</dcterms:modified>
  <cp:revision>1</cp:revision>
  <dc:subject/>
  <dc:title/>
</cp:coreProperties>
</file>